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B13-1382-4B23-B41A-E897C482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D990-9A28-4D16-B0E9-6A2AF8B8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B5A1-75FC-487F-B53C-FFC000E6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478A-B03C-4CE7-98A8-C7252B2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42F5-9ACC-4764-8F07-199FB8E4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0020-FC2F-4F0C-A4FC-66C938DC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963-D94D-4D04-A292-F5DFB978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42C-7A18-45C7-A7D0-DD2E6EF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D80-8E64-43F7-957E-4C463382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C906-96A9-43B1-9FD7-288AD36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83E0-83FF-4584-89B7-087D9682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CCB-2833-4F29-A637-A62F509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75C-5D5E-4E2A-8949-EC9A826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E7C4-36BA-42B4-9AB1-C17BA15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63D-18BE-4CCD-A905-3CD14C6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A86-1E63-4473-B71F-2C53EBE3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2B70-B653-497F-ADD0-A0AEDF4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2B2-4F32-4CA4-93CD-48D8EDBD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792-8467-4E62-8863-EA6578A8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4422-2553-46AC-BBE8-57DB137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6D82-43ED-4153-ADF7-F4F17995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5530-7AC9-4944-9D5D-ABEDC3E3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F5A9-BD28-4A3C-AA75-CBE286B3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AB9F-9B06-45BC-BB8E-D04ADBD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6E70-B7E6-403A-B18B-B0A30037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A53A-BD3C-4800-AC16-F1A90F00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F052-8FB8-4B53-8489-B4FC6EA775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C8F-CB7F-40C7-BC44-599382BF4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70-1990: Some regulations were eased and others were modifi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ggers Rail Act of 1980 gave railroads more flexibility in competing for traf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s against commodity options trading were lifted in 198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came under increased scrutin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fees were instituted for USDA grading servi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90-2010: New challenges arose for marketing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ood safety problems ar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for organic and locally grown foods expan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rns about concentration re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datory price reporting was introduced for livesto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and cooperatives were question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uture of food and agricultural marketing program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ght federal budgets will constrain progr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communication technology will continue to impact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duction, processing, and distribution technologies will continue to evol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ing chronic and acute food borne disease will become more challeng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ation will be a continuing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hapter 3: A History of Government’s Role in the Food and Agricultural Marketing Syste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ard Heif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rodu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rograms have addressed failures in competition and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 fails when one or a few firms are able to distort prices to their advant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, grades and standards, and food safety regulations address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technology, tastes, and marketing practices require programs to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80-1900:  Regulation of competition beg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terstate Commerce Act of 1887 was Congress’ first exercise of its Constitutional authority to regulate commerce between the st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erman Antitrust Act of 1890 prohibit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combinations or coord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practices and exclusionary conduc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00-1920: Food safety programs were launched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eat Inspection Act of 1906 required inspection of meats entering interstate and foreign comme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ure Food and Drug Act of 1906 prohibited ingredients that substituted for food, concealed damage, or posed a health hazard. Labeling could not be false and dangerous ingredients had to be list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10-1920: USDA market news and grading services bega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 reporting began in 191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grade standards were developed over the next deca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ress passed three laws in 1916 calling for the development of grades and standard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ain Standard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tton Futur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andard Fruit and Vegetable Containers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20-1940: New programs protected &amp; empowered farmer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1 Packers and Stockyard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2 Capper-Volstead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 Perishable Agricultural Commoditie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6 Commodity Exchange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7 The Agricultural Marketing Agreements Act authorized marketing or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strengthened and expanded the use of federal grades and stand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30-1970: Food safety regulations were expand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lerances for poisonous substances were established and factory inspection author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tightened controls on chemicals in foods, limited pesticide residues, required makers of new additives to establish safety, and prohibited carcinoge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 labeling of consumer products for content, identity, and source was establish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-1980: Marketing programs evolved further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gricultural Marketing Act of 1946 reinvigorated marketing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orm milk pricing formulas were established nationwide in 196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armer-to-Consumer Direct Marketing Act was passed in 197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trading regulation moved from USDA to the CF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6T00:32:57Z</dcterms:modified>
  <cp:revision>41</cp:revision>
  <dc:subject/>
  <dc:title>U.S. Policies Affecting Food and Agricultural Marketing</dc:title>
</cp:coreProperties>
</file>